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10718640" cy="156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143000" y="5555880"/>
            <a:ext cx="107186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635520" y="49654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4300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635520" y="5555880"/>
            <a:ext cx="52304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6712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8391600" y="49654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1430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76712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8391600" y="5555880"/>
            <a:ext cx="345132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600200"/>
            <a:ext cx="1071864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4965480"/>
            <a:ext cx="10718640" cy="11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88920" indent="-8892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88920" indent="-8892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88920" indent="-8892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3" name="Picture 3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5" name="Line 5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6" name="Picture 6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7" name="Picture 7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8" name="Line 8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9" name="Line 9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" name="Line 10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1071864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marL="56592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95544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39536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835640" indent="-56592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2275560" indent="-56556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2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2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2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3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3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75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47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47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1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2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3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4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485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756120" y="2882880"/>
            <a:ext cx="510516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50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2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53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97" name="Group 12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98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0" name="Picture 4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01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Line 6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25120"/>
            <a:ext cx="1071864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143000" y="2882880"/>
            <a:ext cx="5105520" cy="6045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9000"/>
          </a:bodyPr>
          <a:p>
            <a:pPr marL="4514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76212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1348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464840" indent="-45144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815840" indent="-451080"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495360" y="571680"/>
            <a:ext cx="12014280" cy="8648640"/>
            <a:chOff x="495360" y="571680"/>
            <a:chExt cx="12014280" cy="8648640"/>
          </a:xfrm>
        </p:grpSpPr>
        <p:pic>
          <p:nvPicPr>
            <p:cNvPr id="147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4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49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571680"/>
              <a:ext cx="1752480" cy="184140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50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Line 7"/>
            <p:cNvSpPr/>
            <p:nvPr/>
          </p:nvSpPr>
          <p:spPr>
            <a:xfrm>
              <a:off x="1790640" y="5972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588960" y="9106200"/>
              <a:ext cx="1181916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609840" y="254016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4" name="Line 10"/>
            <p:cNvSpPr/>
            <p:nvPr/>
          </p:nvSpPr>
          <p:spPr>
            <a:xfrm>
              <a:off x="601560" y="2590920"/>
              <a:ext cx="1179360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608040" y="1855800"/>
              <a:ext cx="0" cy="72630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2395160" y="1846440"/>
              <a:ext cx="0" cy="726588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3060360"/>
            <a:ext cx="10718640" cy="363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grpSp>
        <p:nvGrpSpPr>
          <p:cNvPr id="194" name="Group 10"/>
          <p:cNvGrpSpPr/>
          <p:nvPr/>
        </p:nvGrpSpPr>
        <p:grpSpPr>
          <a:xfrm>
            <a:off x="584280" y="571680"/>
            <a:ext cx="11849040" cy="8584560"/>
            <a:chOff x="584280" y="571680"/>
            <a:chExt cx="11849040" cy="8584560"/>
          </a:xfrm>
        </p:grpSpPr>
        <p:pic>
          <p:nvPicPr>
            <p:cNvPr id="195" name="Picture 2" descr=""/>
            <p:cNvPicPr/>
            <p:nvPr/>
          </p:nvPicPr>
          <p:blipFill>
            <a:blip r:embed="rId3"/>
            <a:stretch/>
          </p:blipFill>
          <p:spPr>
            <a:xfrm>
              <a:off x="58428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6" name="Picture 3" descr=""/>
            <p:cNvPicPr/>
            <p:nvPr/>
          </p:nvPicPr>
          <p:blipFill>
            <a:blip r:embed="rId4"/>
            <a:stretch/>
          </p:blipFill>
          <p:spPr>
            <a:xfrm>
              <a:off x="10680840" y="57168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197" name="Line 4"/>
            <p:cNvSpPr/>
            <p:nvPr/>
          </p:nvSpPr>
          <p:spPr>
            <a:xfrm>
              <a:off x="12395160" y="1841400"/>
              <a:ext cx="0" cy="60303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198" name="Picture 5" descr=""/>
            <p:cNvPicPr/>
            <p:nvPr/>
          </p:nvPicPr>
          <p:blipFill>
            <a:blip r:embed="rId5"/>
            <a:stretch/>
          </p:blipFill>
          <p:spPr>
            <a:xfrm>
              <a:off x="58428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pic>
          <p:nvPicPr>
            <p:cNvPr id="199" name="Picture 6" descr=""/>
            <p:cNvPicPr/>
            <p:nvPr/>
          </p:nvPicPr>
          <p:blipFill>
            <a:blip r:embed="rId6"/>
            <a:stretch/>
          </p:blipFill>
          <p:spPr>
            <a:xfrm>
              <a:off x="10680840" y="7315200"/>
              <a:ext cx="1752480" cy="1841040"/>
            </a:xfrm>
            <a:prstGeom prst="rect">
              <a:avLst/>
            </a:prstGeom>
            <a:ln w="0">
              <a:noFill/>
            </a:ln>
            <a:effectLst>
              <a:outerShdw dist="12600" dir="0" blurRad="0" rotWithShape="0">
                <a:srgbClr val="ffffff">
                  <a:alpha val="75000"/>
                </a:srgbClr>
              </a:outerShdw>
            </a:effectLst>
          </p:spPr>
        </p:pic>
        <p:sp>
          <p:nvSpPr>
            <p:cNvPr id="200" name="Line 7"/>
            <p:cNvSpPr/>
            <p:nvPr/>
          </p:nvSpPr>
          <p:spPr>
            <a:xfrm>
              <a:off x="1790640" y="910584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1" name="Line 8"/>
            <p:cNvSpPr/>
            <p:nvPr/>
          </p:nvSpPr>
          <p:spPr>
            <a:xfrm>
              <a:off x="608040" y="1855440"/>
              <a:ext cx="0" cy="60195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02" name="Line 9"/>
            <p:cNvSpPr/>
            <p:nvPr/>
          </p:nvSpPr>
          <p:spPr>
            <a:xfrm>
              <a:off x="1790640" y="596880"/>
              <a:ext cx="9436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060720"/>
            <a:ext cx="5105520" cy="234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143000" y="5397120"/>
            <a:ext cx="5105520" cy="1422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4000"/>
          </a:bodyPr>
          <a:p>
            <a:pPr marL="11664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116640" indent="-11664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116640" indent="-11664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116640" indent="-11664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41" name="Group 11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242" name="Line 3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43" name="Picture 4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6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246" name="Picture 7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Line 8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8" name="Line 9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895800"/>
            <a:ext cx="10718640" cy="1219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d583f"/>
                </a:solidFill>
                <a:latin typeface="Baskerville"/>
              </a:rPr>
              <a:t>Click to edit the title text format</a:t>
            </a:r>
            <a:endParaRPr b="0" lang="en-US" sz="72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143000" y="8102520"/>
            <a:ext cx="10718640" cy="60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3000"/>
          </a:bodyPr>
          <a:p>
            <a:pPr marL="44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1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2" marL="44280" indent="-44280" algn="ctr">
              <a:buClr>
                <a:srgbClr val="674b23"/>
              </a:buClr>
              <a:buFont typeface="Baskervil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3" marL="44280" indent="-44280" algn="ctr">
              <a:buClr>
                <a:srgbClr val="674b23"/>
              </a:buClr>
              <a:buFont typeface="Baskervil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4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5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  <a:p>
            <a:pPr lvl="6" marL="44280" indent="-44280" algn="ctr">
              <a:buClr>
                <a:srgbClr val="674b23"/>
              </a:buClr>
              <a:buFont typeface="Baskervil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36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288" name="Group 11"/>
          <p:cNvGrpSpPr/>
          <p:nvPr/>
        </p:nvGrpSpPr>
        <p:grpSpPr>
          <a:xfrm>
            <a:off x="495360" y="6413400"/>
            <a:ext cx="12014280" cy="2806560"/>
            <a:chOff x="495360" y="6413400"/>
            <a:chExt cx="12014280" cy="2806560"/>
          </a:xfrm>
        </p:grpSpPr>
        <p:sp>
          <p:nvSpPr>
            <p:cNvPr id="289" name="Line 3"/>
            <p:cNvSpPr/>
            <p:nvPr/>
          </p:nvSpPr>
          <p:spPr>
            <a:xfrm>
              <a:off x="609840" y="651492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0" name="Line 4"/>
            <p:cNvSpPr/>
            <p:nvPr/>
          </p:nvSpPr>
          <p:spPr>
            <a:xfrm>
              <a:off x="12395160" y="6527880"/>
              <a:ext cx="0" cy="25761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291" name="Picture 5" descr=""/>
            <p:cNvPicPr/>
            <p:nvPr/>
          </p:nvPicPr>
          <p:blipFill>
            <a:blip r:embed="rId3"/>
            <a:stretch/>
          </p:blipFill>
          <p:spPr>
            <a:xfrm>
              <a:off x="123825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6" descr=""/>
            <p:cNvPicPr/>
            <p:nvPr/>
          </p:nvPicPr>
          <p:blipFill>
            <a:blip r:embed="rId4"/>
            <a:stretch/>
          </p:blipFill>
          <p:spPr>
            <a:xfrm>
              <a:off x="495360" y="641340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Line 9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>
              <a:off x="608040" y="6527880"/>
              <a:ext cx="0" cy="257796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1143000" y="825120"/>
            <a:ext cx="10718640" cy="8102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7168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Click to edit the outline text format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1" marL="96516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con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2" marL="14097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Third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3" marL="1854360" indent="-57168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our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4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Fif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5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ix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  <a:p>
            <a:pPr lvl="6" marL="2298600" indent="-571320">
              <a:lnSpc>
                <a:spcPct val="120000"/>
              </a:lnSpc>
              <a:spcBef>
                <a:spcPts val="2801"/>
              </a:spcBef>
              <a:buClr>
                <a:srgbClr val="674b23"/>
              </a:buClr>
              <a:buSzPct val="93000"/>
              <a:buFont typeface="Baskervi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74b23"/>
                </a:solidFill>
                <a:latin typeface="Baskerville"/>
              </a:rPr>
              <a:t>Seventh Outline Level</a:t>
            </a:r>
            <a:endParaRPr b="0" lang="en-US" sz="4200" spc="-1" strike="noStrike">
              <a:solidFill>
                <a:srgbClr val="674b23"/>
              </a:solidFill>
              <a:latin typeface="Baskerville"/>
            </a:endParaRPr>
          </a:p>
        </p:txBody>
      </p:sp>
      <p:grpSp>
        <p:nvGrpSpPr>
          <p:cNvPr id="334" name="Group 10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35" name="Line 2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36" name="Picture 3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4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5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39" name="Picture 6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Line 7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1" name="Line 8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42" name="Line 9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9"/>
          <p:cNvGrpSpPr/>
          <p:nvPr/>
        </p:nvGrpSpPr>
        <p:grpSpPr>
          <a:xfrm>
            <a:off x="495360" y="495360"/>
            <a:ext cx="12014280" cy="8724960"/>
            <a:chOff x="495360" y="495360"/>
            <a:chExt cx="12014280" cy="8724960"/>
          </a:xfrm>
        </p:grpSpPr>
        <p:sp>
          <p:nvSpPr>
            <p:cNvPr id="380" name="Line 1"/>
            <p:cNvSpPr/>
            <p:nvPr/>
          </p:nvSpPr>
          <p:spPr>
            <a:xfrm>
              <a:off x="609840" y="59688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pic>
          <p:nvPicPr>
            <p:cNvPr id="381" name="Picture 2" descr=""/>
            <p:cNvPicPr/>
            <p:nvPr/>
          </p:nvPicPr>
          <p:blipFill>
            <a:blip r:embed="rId3"/>
            <a:stretch/>
          </p:blipFill>
          <p:spPr>
            <a:xfrm>
              <a:off x="123825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3" descr=""/>
            <p:cNvPicPr/>
            <p:nvPr/>
          </p:nvPicPr>
          <p:blipFill>
            <a:blip r:embed="rId4"/>
            <a:stretch/>
          </p:blipFill>
          <p:spPr>
            <a:xfrm>
              <a:off x="495360" y="49536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4" descr=""/>
            <p:cNvPicPr/>
            <p:nvPr/>
          </p:nvPicPr>
          <p:blipFill>
            <a:blip r:embed="rId5"/>
            <a:stretch/>
          </p:blipFill>
          <p:spPr>
            <a:xfrm>
              <a:off x="12382560" y="9093240"/>
              <a:ext cx="127080" cy="127080"/>
            </a:xfrm>
            <a:prstGeom prst="rect">
              <a:avLst/>
            </a:prstGeom>
            <a:ln w="0">
              <a:noFill/>
            </a:ln>
            <a:effectLst>
              <a:outerShdw dist="12600" dir="5400000" blurRad="0" rotWithShape="0">
                <a:srgbClr val="c6be96">
                  <a:alpha val="50000"/>
                </a:srgbClr>
              </a:outerShdw>
            </a:effectLst>
          </p:spPr>
        </p:pic>
        <p:pic>
          <p:nvPicPr>
            <p:cNvPr id="384" name="Picture 5" descr=""/>
            <p:cNvPicPr/>
            <p:nvPr/>
          </p:nvPicPr>
          <p:blipFill>
            <a:blip r:embed="rId6"/>
            <a:stretch/>
          </p:blipFill>
          <p:spPr>
            <a:xfrm>
              <a:off x="495360" y="9093240"/>
              <a:ext cx="127080" cy="1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Line 6"/>
            <p:cNvSpPr/>
            <p:nvPr/>
          </p:nvSpPr>
          <p:spPr>
            <a:xfrm>
              <a:off x="609840" y="9105840"/>
              <a:ext cx="11785320" cy="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6" name="Line 7"/>
            <p:cNvSpPr/>
            <p:nvPr/>
          </p:nvSpPr>
          <p:spPr>
            <a:xfrm>
              <a:off x="12395160" y="596880"/>
              <a:ext cx="0" cy="852012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  <p:sp>
          <p:nvSpPr>
            <p:cNvPr id="387" name="Line 8"/>
            <p:cNvSpPr/>
            <p:nvPr/>
          </p:nvSpPr>
          <p:spPr>
            <a:xfrm>
              <a:off x="608040" y="595440"/>
              <a:ext cx="0" cy="8510400"/>
            </a:xfrm>
            <a:prstGeom prst="line">
              <a:avLst/>
            </a:prstGeom>
            <a:ln w="12600">
              <a:solidFill>
                <a:srgbClr val="c6be96">
                  <a:alpha val="8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674b23"/>
                </a:solidFill>
                <a:latin typeface="Baskerville SemiBold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1143000" y="4965480"/>
            <a:ext cx="10718640" cy="1130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2" descr="Screen Shot 2014-08-16 at 4.57.36 pm.png"/>
          <p:cNvPicPr/>
          <p:nvPr/>
        </p:nvPicPr>
        <p:blipFill>
          <a:blip r:embed="rId3"/>
          <a:stretch/>
        </p:blipFill>
        <p:spPr>
          <a:xfrm>
            <a:off x="453960" y="196920"/>
            <a:ext cx="12169800" cy="921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830320" y="555120"/>
            <a:ext cx="7313400" cy="8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d583f"/>
                </a:solidFill>
                <a:latin typeface="Arial"/>
                <a:ea typeface="Arial"/>
              </a:rPr>
              <a:t>The Pledge</a:t>
            </a:r>
            <a:endParaRPr b="0" lang="en-US" sz="6600" spc="-1" strike="noStrike">
              <a:solidFill>
                <a:srgbClr val="9d583f"/>
              </a:solidFill>
              <a:latin typeface="Baskervill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525600" y="1275840"/>
            <a:ext cx="11880720" cy="813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400" spc="-1" strike="noStrike">
                <a:solidFill>
                  <a:srgbClr val="674b23"/>
                </a:solidFill>
                <a:latin typeface="Arial"/>
                <a:ea typeface="Arial"/>
              </a:rPr>
              <a:t>I promise…</a:t>
            </a:r>
            <a:endParaRPr b="0" lang="en-US" sz="54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onour God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use kind words 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treat all people fairly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not to make fun of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help my friend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include people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buClr>
                <a:srgbClr val="674b23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 promise to show the G.R.E.A. T values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  <a:p>
            <a:pPr>
              <a:lnSpc>
                <a:spcPct val="9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    </a:t>
            </a:r>
            <a:r>
              <a:rPr b="0" lang="en-AU" sz="4800" spc="-1" strike="noStrike">
                <a:solidFill>
                  <a:srgbClr val="674b23"/>
                </a:solidFill>
                <a:latin typeface="Arial"/>
                <a:ea typeface="Arial"/>
              </a:rPr>
              <a:t>In all I do</a:t>
            </a:r>
            <a:endParaRPr b="0" lang="en-US" sz="4800" spc="-1" strike="noStrike">
              <a:solidFill>
                <a:srgbClr val="674b23"/>
              </a:solidFill>
              <a:latin typeface="Baskervill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Glasshouse Country Christian College</cp:lastModifiedBy>
  <dcterms:modified xsi:type="dcterms:W3CDTF">2014-08-16T06:58:40Z</dcterms:modified>
  <cp:revision>76</cp:revision>
  <dc:subject/>
  <dc:title>Ideas</dc:title>
</cp:coreProperties>
</file>